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161-1629-426E-BDBD-24606D95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02B-22AF-41FC-AA71-7880A863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A2B-56DE-432C-AD40-B0D981EF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1F19-8E91-42DB-936D-CCACCE0B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116E-31AE-4DCA-8B0D-0ADA365B2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D80F-6834-4627-AEB3-E2DFE3DA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FD35-9F50-40CD-9568-701B00D1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4779-A33C-473F-B533-F2D69356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A561-75AE-41A3-9BE2-107CE8D5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34AA-E0AA-452F-9BF6-158A7AD5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EBA6-CDDA-491B-BC29-9D357DDC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48B5-520B-4B18-919A-00375CD6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0625-4E12-4C97-97CC-3B9CE869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2A08-4497-4423-9B53-9C1FB29C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9414-5940-4538-9E56-4D2CE02F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FCB7-D4F3-4C7F-A4B9-961375ED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CBBB-B05F-44FB-8143-2F493F55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DFF-D421-47CF-A6E3-8AF92820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166-6F96-469A-8C6C-ADAAFFBF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768-5FB5-4A97-B460-127EA173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0CC-1592-4CCA-B6A5-41815940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EF1-958C-455D-8922-86C8947E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AB6A-4A63-44F6-9F32-B8D0AE39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B0AD-348F-4DED-9BED-53F94C18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8D25-777F-44DB-8417-1642C367786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3DF2-0C6D-49E3-B0C5-31AB89497F3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7335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Earwig Factory"/>
              </a:rPr>
              <a:t>SENIOR Class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09680" y="58669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pee"/>
              </a:rPr>
              <a:t>Purpose of Advisory Perio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57640" y="0"/>
            <a:ext cx="40863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mienne"/>
              </a:rPr>
              <a:t>Overall Goals of Advisory Period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52120" y="1142640"/>
            <a:ext cx="7162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ege Plann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 Testing Strategi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SAT &amp; AIMS Prepar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ncial Plann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unity Service Project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mote School Spiri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reshmen Transi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ucation on Civic Responsibil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eer Portfoli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162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lue Highway Linocut"/>
              </a:rPr>
              <a:t>What is the purpose of advisory period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ovide general academic, financial, college and career information and guidance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ach grade level has a specific curriculum designed to meet the needs of that particular group.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Senior Focu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FOOTPRINT ON THE WOR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rvice Lear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e Drive: inventory &amp; deliv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ior Gi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instorming, raising mon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ntoring Sophomore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34120" y="3881520"/>
            <a:ext cx="3190680" cy="2681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39880" y="380880"/>
            <a:ext cx="61657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Senior Focu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FOOTPRINT ON THE WOR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ege Prepa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e Sear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olarship Applica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e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ege Representativ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NA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of 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Pi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52480" y="4946760"/>
            <a:ext cx="2743200" cy="1911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495680" y="3306600"/>
            <a:ext cx="3276720" cy="2283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705720" y="1776240"/>
            <a:ext cx="2438280" cy="2389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648320" y="5181480"/>
            <a:ext cx="42670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Jokerman"/>
              </a:rPr>
              <a:t>Senior Focu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Jokerman"/>
              </a:rPr>
              <a:t>FOOTPRINT ON THE WORL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86200" y="220968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vic Responsibil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ter Regist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 Spiri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or Decorating Cont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d Nig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acher thank-you no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0369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21:15:10Z</dcterms:created>
  <dc:creator>Tech</dc:creator>
  <dc:description/>
  <dc:language>en-US</dc:language>
  <cp:lastModifiedBy>Tech</cp:lastModifiedBy>
  <dcterms:modified xsi:type="dcterms:W3CDTF">2010-06-03T15:46:52Z</dcterms:modified>
  <cp:revision>16</cp:revision>
  <dc:subject/>
  <dc:title>Sophomore Class </dc:title>
</cp:coreProperties>
</file>